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9229-B3B1-48A5-9837-04C545F4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B955-25C5-482B-9210-E57C2B15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DF34-BCE3-4074-A41A-C3748F3E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1E8-657A-4CF9-A7B7-CBA2EA14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0B3A-7594-4BF6-857A-B55AC0FA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6D75-61A5-4549-8948-C0D94B95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B4C8-2260-4767-8A7D-83258FA3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9156-4ECE-4B6B-A00F-8304BDDB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AFFB-19CA-476C-AD27-2979EE4B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4A48-A192-4FA6-803F-33A1B7B4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1013-5731-4A42-84F9-FB78D284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02C1-4882-4382-AB81-919460D4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0B43-2FF6-4672-BFD8-F69C8D47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27B3-9F18-4FDC-AA19-24BC95A0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B52F-56B6-4AE1-8790-79A4DF6B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FE2A-16C6-471D-BCA4-27CF7CE0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B9F2-7164-4E41-BDF4-7A2754E1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E4168-9B79-4E64-8B37-40F14A67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808FD-355D-49B4-B82E-4B080348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D3F30-EE77-45EC-8710-7505E940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764FF-C50B-4B46-BA08-CAC95DE2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0C2BA-D34A-4F88-A99E-D77B341D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922-2F52-4F10-9570-FD0D3E47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C8949-16A2-46FB-8741-FEC2CA44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5EBF6-B07E-4265-AE70-DD1C54C4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6A3AE-FC42-48E4-855E-5412BECD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B0F68-E16E-4C67-A87F-6FA3E784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25D89-0A93-468A-B6F5-3A46EAE6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37113-FAFC-4D6B-84B2-93A850FD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6D82D-0058-44FF-A394-67528DF0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ED583-AC1C-4976-8109-3AA0D626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29375-240B-45F9-9B52-8C6B9E9C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E4C93-D356-4391-9977-0CFBD1D3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77AC-5EE5-48D1-80FF-CFF9F1FD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CF9DC-6FCB-4C01-B8A7-A1C22065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E493C-8F49-43DE-A625-AD0E5A17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CDD15-71A6-4103-9372-11DB1E8D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D9F70-135B-40D5-8E15-620ED35E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51EEE-6388-4C4D-8B53-D7034CFE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2AE29-587C-4644-ADBB-E5B02124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2CE36-4456-4AEE-B9FD-2A4D5AF9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55FEA-0B4E-4E5F-A2D5-55F8387B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5175D-67C4-449F-AB0E-B38FA59E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3700C-0567-4A44-985A-1806CC1A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2D8-E5A2-4157-BE26-EB91EAFF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E29F5-1AEF-4F7E-8293-D9FC490E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689CC-8086-4840-B7D5-128DD755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22248-29FD-4E2D-B34B-52500A5F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691EA-D233-4587-9F53-9145501F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BD6C6-1B54-4F39-9CF3-06D70696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BE5B6-BADC-48F8-9E4F-E331FEB3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D961F-74B4-4EB5-96B2-E68E7CA9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05E57-092A-4FCA-83AF-715EA2DD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F54F1-B6E0-4BAB-9832-B37CFA92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E8714-ED91-4455-AC17-15C36ED0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D01-D8F6-4D58-8A25-7258FAE3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9F1BC-9A3C-402E-A836-7D1DDE3F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8F660-1374-4455-9D62-3BD9B86A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66B96-7D6C-4520-90FC-D58AD363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3DA3C-4F93-4A56-A4F9-5F424FA5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7379C-C4F2-4DAE-8389-98608EB3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B0E9C-5649-42EA-873B-4E37C0E2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921A0-D676-46B0-A7CD-91CFD543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E193F-434B-449A-B69C-7AA250D8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DCC15-5190-4288-8638-497A961B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B9A74-EB17-4966-8FA8-7915D856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FF7-6771-436D-8393-0136FAAD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245C9-498F-4CFD-8D08-E5A32B6A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ACBA0-D69D-466E-8180-758D5A4E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A6B8C-EB99-4428-AA3E-55CEBEB3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1A393-F627-4461-BD70-FE95F937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A8380-BF45-4A93-8765-DA1E0627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12783-E29D-427A-8875-95AD1B4A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60905-FE58-48F9-A546-B2E075AA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B553C-A8B3-43C1-92D8-1826DFED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A10D5-93D2-4C70-80F6-D7F29E0E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7F5C7-85ED-4AE1-B137-888747A5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900-736B-4EEE-819F-BF2E8318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7939B-CE42-4155-ADBB-08495639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94AC0-A92D-4D05-983E-93A28B95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C05DE-A3BB-4298-9EF4-3C27A314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D1C9C-4833-4D2D-9F2F-2571961D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085DF-50AF-4657-B7FB-555B76F4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C63-0B26-4EAC-92C6-DA6EA71E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9843-50E2-4AF5-ABC2-8941ACBDFC0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7" descr="母板副本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2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母板副本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椭圆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8" name="椭圆 12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母板副本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69CF-6DE5-4B9F-80F3-B92E869500A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椭圆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6" name="椭圆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椭圆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66C5-382A-4359-9B31-1CA376C934F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0AD7-E236-4B1C-B2FA-A0714FBE918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4F16-9397-450E-A029-0DC2C37BDC3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9196-5EC8-46CE-98BF-9FFB5D8333F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矩形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6" name="矩形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流程图: 过程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流程图: 过程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FC97-58C2-4B4A-B68F-CE2A2DD3A30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合格证工作情况总结</a:t>
            </a:r>
            <a:br>
              <a:rPr sz="4300"/>
            </a:b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及升级说明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428840" y="3714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Gill Sans MT"/>
              </a:rPr>
              <a:t>中国汽车技术研究中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Gill Sans MT"/>
              </a:rPr>
              <a:t>合格证数据中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Gill Sans MT"/>
              </a:rPr>
              <a:t>尚云飞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57160" y="571680"/>
            <a:ext cx="74995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核查成功率情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5716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从去年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月份开始核查以来，核查成功率一直保持在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99%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左右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其中客车情况最好，基本保持在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99.9%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月份客车核查成功率为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99.9%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，货车核查成功率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98.0%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，摩托车核查成功率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98.4%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但从绝对数量上看还是很多，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月份有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0880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辆车核查失败，其中大部分为摩托车有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4847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，客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401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，货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243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企业情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85520" y="1214280"/>
            <a:ext cx="7499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月份共核查了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930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家企业合格证，其中核查成功率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00%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的企业有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507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家，核查成功率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99%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以上的有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608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家，占总企业数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65%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大企业的核查成功率很高，如客车企业通用五菱、上海大众、一汽大众、东风有限、现代，成功率都在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99.9%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以上，尤其南京长安、华晨宝马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月的核查成功率已经达到了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00%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。摩托车企业如大长江、钱江也都达到了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99%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以上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核查失败率低的企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客车企业中河南少林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月的成功率只有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95%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摩托车企业中成功率低的企业还是很多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林芝山阳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36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79.71%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江苏雄风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581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79.57%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众星集团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507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78.97%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无锡金洪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40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78.18%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江苏国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722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77.97%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Gill Sans MT"/>
              </a:rPr>
              <a:t>江苏新豪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1349</a:t>
            </a:r>
            <a:r>
              <a:rPr b="0" lang="zh-CN" sz="2000" spc="-1" strike="noStrike">
                <a:solidFill>
                  <a:srgbClr val="ff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77.62%</a:t>
            </a:r>
            <a:r>
              <a:rPr b="0" lang="zh-CN" sz="20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无锡金霸王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05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77.36%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宁波东方凌云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834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77.01%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江苏三鑫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92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73.74%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浙江黄岩三叶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8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73.08%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Gill Sans MT"/>
              </a:rPr>
              <a:t>轻骑集团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4512</a:t>
            </a:r>
            <a:r>
              <a:rPr b="0" lang="zh-CN" sz="2000" spc="-1" strike="noStrike">
                <a:solidFill>
                  <a:srgbClr val="ff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71.82%</a:t>
            </a:r>
            <a:r>
              <a:rPr b="0" lang="zh-CN" sz="20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江苏爱俊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87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68.98%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广州嘉锋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5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68.63%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Gill Sans MT"/>
              </a:rPr>
              <a:t>常熟市轻型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765</a:t>
            </a:r>
            <a:r>
              <a:rPr b="0" lang="zh-CN" sz="2000" spc="-1" strike="noStrike">
                <a:solidFill>
                  <a:srgbClr val="ff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68.61%</a:t>
            </a:r>
            <a:r>
              <a:rPr b="0" lang="zh-CN" sz="20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重庆力阳嘉通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8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67.86%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江苏新世纪远豪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5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64.81%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无锡鸿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77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59.37%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江苏金捷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17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53.92%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山南金鹰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50.00%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中山国驰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9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0.28%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临海市中豪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0.00%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江门中裕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.33 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深圳建设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0.00%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360" y="27144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存在问题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内容占位符 2"/>
          <p:cNvSpPr/>
          <p:nvPr/>
        </p:nvSpPr>
        <p:spPr>
          <a:xfrm>
            <a:off x="1000080" y="1571760"/>
            <a:ext cx="749772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华文中宋"/>
              </a:rPr>
              <a:t>撤销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华文中宋"/>
              </a:rPr>
              <a:t>修改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华文中宋"/>
              </a:rPr>
              <a:t>补传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华文中宋"/>
              </a:rPr>
              <a:t>倒卖合格证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华文中宋"/>
              </a:rPr>
              <a:t>过期公告上传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不符合公告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华文中宋"/>
              </a:rPr>
              <a:t>违规上传合格证数据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1239840" y="1633680"/>
            <a:ext cx="419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标题 1"/>
          <p:cNvSpPr/>
          <p:nvPr/>
        </p:nvSpPr>
        <p:spPr>
          <a:xfrm>
            <a:off x="1428840" y="2928960"/>
            <a:ext cx="65721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  <a:ea typeface="华文中宋"/>
              </a:rPr>
              <a:t>合格证管理系统升级说明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142640" y="1500120"/>
            <a:ext cx="7219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Gill Sans MT"/>
              </a:rPr>
              <a:t>打印软件和上传软件合并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Gill Sans MT"/>
              </a:rPr>
              <a:t>增加了硬件密钥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zh-CN" sz="2200" spc="-1" strike="noStrike">
                <a:solidFill>
                  <a:srgbClr val="000000"/>
                </a:solidFill>
                <a:latin typeface="Gill Sans MT"/>
              </a:rPr>
              <a:t>盾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Gill Sans MT"/>
              </a:rPr>
              <a:t>增加了字段：纸张编号（选填项）、公告产品号（必填项）、生效日期、批次和打印编号（自动）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Gill Sans MT"/>
              </a:rPr>
              <a:t>比对公告（上传时）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Gill Sans MT"/>
              </a:rPr>
              <a:t>增加了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ebservice</a:t>
            </a:r>
            <a:r>
              <a:rPr b="0" lang="zh-CN" sz="2200" spc="-1" strike="noStrike">
                <a:solidFill>
                  <a:srgbClr val="000000"/>
                </a:solidFill>
                <a:latin typeface="Gill Sans MT"/>
              </a:rPr>
              <a:t>服务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85560" y="25714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下一步工作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713880" y="1499760"/>
            <a:ext cx="74977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</a:rPr>
              <a:t>加强合格证管理，防止倒卖合格证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</a:rPr>
              <a:t>上传时校验公告符合性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</a:rPr>
              <a:t>异常监控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</a:rPr>
              <a:t>控制修改和撤销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74995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常见问题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00080" y="1785960"/>
            <a:ext cx="77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</a:rPr>
              <a:t>为何要升级？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</a:rPr>
              <a:t>升级为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0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</a:rPr>
              <a:t>版合格证是否会影响车管所上牌？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</a:rPr>
              <a:t>什么是公告产品号，怎么来的？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</a:rPr>
              <a:t>在哪里可以得到公告产品号？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</a:rPr>
              <a:t>何时正式启用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0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</a:rPr>
              <a:t>版系统？（具体安排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</a:rPr>
              <a:t>我还需要多余的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</a:rPr>
              <a:t>盾怎么办？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</a:rPr>
              <a:t>我们上传了合格证为何车管所还是查无此证？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</a:rPr>
              <a:t>要多长时间才能入公安部数据库？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13880" y="2714400"/>
            <a:ext cx="77742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上传总体情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1239840" y="1633680"/>
            <a:ext cx="419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标题 1"/>
          <p:cNvSpPr/>
          <p:nvPr/>
        </p:nvSpPr>
        <p:spPr>
          <a:xfrm>
            <a:off x="785880" y="2071800"/>
            <a:ext cx="749772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72314"/>
                </a:solidFill>
                <a:latin typeface="Gill Sans MT"/>
                <a:ea typeface="华文中宋"/>
              </a:rPr>
              <a:t>欢迎您提出宝贵意见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72314"/>
                </a:solidFill>
                <a:latin typeface="Gill Sans MT"/>
                <a:ea typeface="华文中宋"/>
              </a:rPr>
              <a:t>感谢您的大力支持配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28800" y="1428840"/>
            <a:ext cx="7500960" cy="4643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Gill Sans MT"/>
              </a:rPr>
              <a:t>企业合计上传了：</a:t>
            </a:r>
            <a:r>
              <a:rPr b="1" lang="en-US" sz="2600" spc="-1" strike="noStrike">
                <a:solidFill>
                  <a:srgbClr val="320e04"/>
                </a:solidFill>
                <a:latin typeface="Gill Sans MT"/>
              </a:rPr>
              <a:t>91467466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</a:rPr>
              <a:t> 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</a:rPr>
              <a:t>条合格证信息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Gill Sans MT"/>
              </a:rPr>
              <a:t>其中汽车：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3760005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</a:rPr>
              <a:t>； 摩托车：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53750916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</a:rPr>
              <a:t> 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</a:rPr>
              <a:t>；三轮汽车和低速货车：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956545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5" name="图表 2" descr=""/>
          <p:cNvPicPr/>
          <p:nvPr/>
        </p:nvPicPr>
        <p:blipFill>
          <a:blip r:embed="rId1"/>
          <a:stretch/>
        </p:blipFill>
        <p:spPr>
          <a:xfrm>
            <a:off x="2170080" y="3067200"/>
            <a:ext cx="4694400" cy="2968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642960" y="1447560"/>
            <a:ext cx="82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009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年上半年上传数量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4709133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其中汽车：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6013113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； 摩托车：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8182038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三轮汽车和低速货车：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513982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图表 6" descr=""/>
          <p:cNvPicPr/>
          <p:nvPr/>
        </p:nvPicPr>
        <p:blipFill>
          <a:blip r:embed="rId1"/>
          <a:stretch/>
        </p:blipFill>
        <p:spPr>
          <a:xfrm>
            <a:off x="1779480" y="3139920"/>
            <a:ext cx="5724720" cy="3011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231948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图表 4" descr=""/>
          <p:cNvPicPr/>
          <p:nvPr/>
        </p:nvPicPr>
        <p:blipFill>
          <a:blip r:embed="rId1"/>
          <a:stretch/>
        </p:blipFill>
        <p:spPr>
          <a:xfrm>
            <a:off x="0" y="0"/>
            <a:ext cx="8796240" cy="6370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231948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表 3" descr=""/>
          <p:cNvPicPr/>
          <p:nvPr/>
        </p:nvPicPr>
        <p:blipFill>
          <a:blip r:embed="rId1"/>
          <a:stretch/>
        </p:blipFill>
        <p:spPr>
          <a:xfrm>
            <a:off x="0" y="0"/>
            <a:ext cx="8942400" cy="6297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231948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图表 3" descr=""/>
          <p:cNvPicPr/>
          <p:nvPr/>
        </p:nvPicPr>
        <p:blipFill>
          <a:blip r:embed="rId1"/>
          <a:stretch/>
        </p:blipFill>
        <p:spPr>
          <a:xfrm>
            <a:off x="0" y="0"/>
            <a:ext cx="8796240" cy="6370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3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核查情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28480" y="4284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2009</a:t>
            </a: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年上半年总核对数量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5680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009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年上半年共核查合格证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1831201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其中汽车核对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6620488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， 摩托车核对 ：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5049444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； 三轮汽车和低速货车核对：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61269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7" name="图表 4" descr=""/>
          <p:cNvPicPr/>
          <p:nvPr/>
        </p:nvPicPr>
        <p:blipFill>
          <a:blip r:embed="rId1"/>
          <a:stretch/>
        </p:blipFill>
        <p:spPr>
          <a:xfrm>
            <a:off x="1706400" y="3565440"/>
            <a:ext cx="6370920" cy="2586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03:11:59Z</dcterms:created>
  <dc:creator>王同辉</dc:creator>
  <dc:description/>
  <dc:language>en-US</dc:language>
  <cp:lastModifiedBy>shangyunfei</cp:lastModifiedBy>
  <dcterms:modified xsi:type="dcterms:W3CDTF">2009-08-26T16:49:51Z</dcterms:modified>
  <cp:revision>65</cp:revision>
  <dc:subject/>
  <dc:title>幻灯片 1</dc:title>
</cp:coreProperties>
</file>